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199-3F4E-481C-A3BD-6631B775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211-13FA-4540-B4FD-AC6D48C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1A1-6C7F-4B73-86C3-C39CFA6A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EFA-A99C-4C8F-9918-3633D46D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0AE-CCEB-4A2E-BC7D-DC32C209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998D-0E9E-4969-89AC-E57F7175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480D-FCF2-42EE-AB39-953BA4DF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CF8F-7209-4CAB-85E6-0666C68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4EBB-809D-4048-91BF-46CB2D6B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2AB-89FC-4BCD-B010-25C5C113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D2E2-8A45-4187-8FC0-9E9E83B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329-08E0-4E72-9CDA-962215A8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04A1-14FF-46F7-8F13-237977F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C54F-98DF-4F68-B7D4-8726E42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EBAE-2B94-4361-8700-AA3E0868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B116-8EAF-4AE0-AD2E-3D87701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C0F-4FAD-4CE7-AC7B-67779C53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495-C3FE-4E67-B746-4F6C2BA2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309-1C87-4EC6-9A19-C8B3ADB6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705-2DD4-4D11-9A7A-4E67B1C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AFE-F6D9-4F25-AADD-87A3A4D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386-DDDC-4962-98BF-6165119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9B2-CEB2-4357-83CD-92B0AE4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84B-B9C6-451D-A1C0-76BEF33B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893C-5FDB-41AA-A2B9-21864CD5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D75-F302-4D8C-A564-AAEAE3E5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August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August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urs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ur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 10:00 - 12:00; 5:00 - 6:00 and Thursday 4:00 - 6:00 PM and by appoint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4:00 – 6:00, and by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College of Business Administration</cp:lastModifiedBy>
  <dcterms:modified xsi:type="dcterms:W3CDTF">2007-08-20T14:31:19Z</dcterms:modified>
  <cp:revision>50</cp:revision>
  <dc:subject/>
  <dc:title>ACG 5405 Intro</dc:title>
</cp:coreProperties>
</file>